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67E9-A3F3-4DF3-9117-A2168CBD8C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54D0-52D9-4CA9-8FF7-124AB087BD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78BD-021E-46AB-B6F5-5EC81F9BEE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984B-F44C-4E82-B4CE-A9CA13E8B3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0592-90F0-4003-A7C7-AAC03890C5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46A2-E0A9-41E7-ABAD-C54358CFAB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730-04AC-42DE-B68A-5FC1D8AC8C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4C20-7C7A-4A48-9DD3-9A8C5AD482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6DB9-C82D-4808-84C7-CD0CA07ECE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C1BF-11C7-467E-A447-DB102AB35B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74D7-2CFA-4A43-B341-22E630F7BF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C7B1-3F98-4BD8-972B-23ACED76EC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37FF-4852-442E-B2A1-54DD26F1D7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2854-3A4B-4284-AB70-C290599319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0695-E8DE-43EB-9A79-901FA43587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A121-B200-4FA9-AB66-9DAFA60FB7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FFEE-1242-4BDF-8416-35635F8135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A74-2EBC-4B50-B56C-141EEA9319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0A32-CE1F-4924-8249-BEA0A7FFCE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5E02-9376-4223-A05A-7B55C55B96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3DA6-01C5-4256-A2AD-C2E9FFF808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BE15-C139-4787-8F19-941E9CE5D7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BABB-637A-4A13-B3C9-C374F221FD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563C-4DDE-4E01-8CD4-F741DECD26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387A-336C-4EB3-9977-BAEB1E3159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4872-CC7B-4EAA-BE17-4B8CFF71CB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1B00-C21B-4FB2-B23F-909AA582D3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60B7-2584-4AAE-900D-9C9D562BBC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F98-4A79-4DCE-81B7-0E639EE4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B81-6EF0-431A-B944-9A8E2C4E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0AF-1240-48BE-83B8-BB71003B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84E-3DD3-4E0B-A673-ABB9FC62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4C1-AC0F-4972-8A0E-B8544819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22D-C67E-4634-B3F4-B828678D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A0C-3EEE-424E-BF6D-25F204B1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C0F-5092-4CBC-84AE-07F23224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E03-2DEF-4418-8B68-44C9AA0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33A-1716-42B8-993E-E344B8EC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8E6-50B8-42FB-BEC2-C0D7E12F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AAA-FCB4-4A0D-9A73-42B34C3D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B3CE-0F48-4A52-A36A-BB8CB90B9E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features of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al tr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oonal tropics contain large human populations which are devastating the ec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inter, wind is cool from interior, creating dry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spring onwards, temperatures slowly incre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late summer continental heating causes onshore winds which (hopefully) bring monsoonal r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0% of rainfall in summer, but erratic &amp; locally variable. Floods and droughts common &amp; unpredic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as per wet-trop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so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rt from where volcanic, soils are old (not renewed by glaciation) and leac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strateg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p forest clea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ore humus with green manure crops and interplant/intercrop / lay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small quantities of nutrient at regular intervals so plants can take it up before it is leac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perennials instead of annual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ing oriented to wind, not sun; lightweight &amp; well ventilated, but may need anchoring or refuge for cyclone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t season is ‘hungry tim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insect pests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tore for winter growing in wet-dry trop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rricane/tsunami protective earth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cool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? - most of Europe, China, Japan, upper North America, Canada, Andean slopes and southern half of South America, SE Australia and mountains of SW 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sonal impact of frost, snow, 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winter rainfall, drought late su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lant growth in spring and su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landscape prior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85920" y="1600200"/>
            <a:ext cx="740088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system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 system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85880" y="428616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ing priority is space &amp; water heating as these consume greates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young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ed by steep slopes (e.g. NZ) hence risk of erosion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off-contour cut-n-fill excavation (e.g. use pole hous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contour tracks and terraces (SE As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raced perennial or interplanted gardens  (biomass held in vegetation, not so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-electric power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mature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red human settlement sites where broadscale agriculture develop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slopes colder &amp; frost prone but good water collection and forest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tlands frost and sometimes flood-pr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mediate/lower slopes include thermal belt &amp; best for cul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599840"/>
            <a:ext cx="24717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ested ri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4457880" y="2824200"/>
            <a:ext cx="3971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point: where slope changes from convex to conc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sosceles Triangle 13"/>
          <p:cNvSpPr/>
          <p:nvPr/>
        </p:nvSpPr>
        <p:spPr>
          <a:xfrm>
            <a:off x="1143000" y="20718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sosceles Triangle 14"/>
          <p:cNvSpPr/>
          <p:nvPr/>
        </p:nvSpPr>
        <p:spPr>
          <a:xfrm>
            <a:off x="1295280" y="22240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sosceles Triangle 15"/>
          <p:cNvSpPr/>
          <p:nvPr/>
        </p:nvSpPr>
        <p:spPr>
          <a:xfrm>
            <a:off x="1447920" y="23763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sosceles Triangle 16"/>
          <p:cNvSpPr/>
          <p:nvPr/>
        </p:nvSpPr>
        <p:spPr>
          <a:xfrm>
            <a:off x="1600200" y="25290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sosceles Triangle 17"/>
          <p:cNvSpPr/>
          <p:nvPr/>
        </p:nvSpPr>
        <p:spPr>
          <a:xfrm>
            <a:off x="1752480" y="26812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sosceles Triangle 18"/>
          <p:cNvSpPr/>
          <p:nvPr/>
        </p:nvSpPr>
        <p:spPr>
          <a:xfrm>
            <a:off x="1905120" y="28335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19"/>
          <p:cNvSpPr/>
          <p:nvPr/>
        </p:nvSpPr>
        <p:spPr>
          <a:xfrm>
            <a:off x="2057400" y="29862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sosceles Triangle 20"/>
          <p:cNvSpPr/>
          <p:nvPr/>
        </p:nvSpPr>
        <p:spPr>
          <a:xfrm>
            <a:off x="1857240" y="21430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sosceles Triangle 21"/>
          <p:cNvSpPr/>
          <p:nvPr/>
        </p:nvSpPr>
        <p:spPr>
          <a:xfrm>
            <a:off x="2009880" y="22953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22"/>
          <p:cNvSpPr/>
          <p:nvPr/>
        </p:nvSpPr>
        <p:spPr>
          <a:xfrm>
            <a:off x="2162160" y="24480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sosceles Triangle 23"/>
          <p:cNvSpPr/>
          <p:nvPr/>
        </p:nvSpPr>
        <p:spPr>
          <a:xfrm>
            <a:off x="2314440" y="26002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sosceles Triangle 24"/>
          <p:cNvSpPr/>
          <p:nvPr/>
        </p:nvSpPr>
        <p:spPr>
          <a:xfrm>
            <a:off x="928800" y="27525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sosceles Triangle 25"/>
          <p:cNvSpPr/>
          <p:nvPr/>
        </p:nvSpPr>
        <p:spPr>
          <a:xfrm>
            <a:off x="1033560" y="250020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sosceles Triangle 26"/>
          <p:cNvSpPr/>
          <p:nvPr/>
        </p:nvSpPr>
        <p:spPr>
          <a:xfrm>
            <a:off x="1571760" y="20718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sosceles Triangle 27"/>
          <p:cNvSpPr/>
          <p:nvPr/>
        </p:nvSpPr>
        <p:spPr>
          <a:xfrm>
            <a:off x="1724040" y="22240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sosceles Triangle 28"/>
          <p:cNvSpPr/>
          <p:nvPr/>
        </p:nvSpPr>
        <p:spPr>
          <a:xfrm>
            <a:off x="1876320" y="23763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sosceles Triangle 29"/>
          <p:cNvSpPr/>
          <p:nvPr/>
        </p:nvSpPr>
        <p:spPr>
          <a:xfrm>
            <a:off x="2028960" y="25290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sosceles Triangle 30"/>
          <p:cNvSpPr/>
          <p:nvPr/>
        </p:nvSpPr>
        <p:spPr>
          <a:xfrm>
            <a:off x="2181240" y="26812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sosceles Triangle 31"/>
          <p:cNvSpPr/>
          <p:nvPr/>
        </p:nvSpPr>
        <p:spPr>
          <a:xfrm>
            <a:off x="1071720" y="2295360"/>
            <a:ext cx="14256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sosceles Triangle 32"/>
          <p:cNvSpPr/>
          <p:nvPr/>
        </p:nvSpPr>
        <p:spPr>
          <a:xfrm>
            <a:off x="1224000" y="24480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sosceles Triangle 33"/>
          <p:cNvSpPr/>
          <p:nvPr/>
        </p:nvSpPr>
        <p:spPr>
          <a:xfrm>
            <a:off x="1376280" y="26002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34"/>
          <p:cNvSpPr/>
          <p:nvPr/>
        </p:nvSpPr>
        <p:spPr>
          <a:xfrm>
            <a:off x="1528920" y="2752560"/>
            <a:ext cx="14256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sosceles Triangle 35"/>
          <p:cNvSpPr/>
          <p:nvPr/>
        </p:nvSpPr>
        <p:spPr>
          <a:xfrm>
            <a:off x="1681200" y="29052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sosceles Triangle 36"/>
          <p:cNvSpPr/>
          <p:nvPr/>
        </p:nvSpPr>
        <p:spPr>
          <a:xfrm>
            <a:off x="2286000" y="22860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sosceles Triangle 37"/>
          <p:cNvSpPr/>
          <p:nvPr/>
        </p:nvSpPr>
        <p:spPr>
          <a:xfrm>
            <a:off x="2438280" y="243828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sosceles Triangle 38"/>
          <p:cNvSpPr/>
          <p:nvPr/>
        </p:nvSpPr>
        <p:spPr>
          <a:xfrm>
            <a:off x="1052640" y="259092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sosceles Triangle 39"/>
          <p:cNvSpPr/>
          <p:nvPr/>
        </p:nvSpPr>
        <p:spPr>
          <a:xfrm>
            <a:off x="1204920" y="27432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sosceles Triangle 40"/>
          <p:cNvSpPr/>
          <p:nvPr/>
        </p:nvSpPr>
        <p:spPr>
          <a:xfrm>
            <a:off x="1357200" y="289548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45"/>
          <p:cNvCxnSpPr/>
          <p:nvPr/>
        </p:nvCxnSpPr>
        <p:spPr>
          <a:xfrm flipH="1">
            <a:off x="4357080" y="3161160"/>
            <a:ext cx="386280" cy="338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Straight Connector 47"/>
          <p:cNvSpPr/>
          <p:nvPr/>
        </p:nvSpPr>
        <p:spPr>
          <a:xfrm>
            <a:off x="3714840" y="4143240"/>
            <a:ext cx="3000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48"/>
          <p:cNvSpPr/>
          <p:nvPr/>
        </p:nvSpPr>
        <p:spPr>
          <a:xfrm>
            <a:off x="3867120" y="5141880"/>
            <a:ext cx="3000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5315040" y="4286160"/>
            <a:ext cx="3257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mal belt: ideal for h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sosceles Triangle 50"/>
          <p:cNvSpPr/>
          <p:nvPr/>
        </p:nvSpPr>
        <p:spPr>
          <a:xfrm>
            <a:off x="2824200" y="255276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sosceles Triangle 51"/>
          <p:cNvSpPr/>
          <p:nvPr/>
        </p:nvSpPr>
        <p:spPr>
          <a:xfrm>
            <a:off x="2976480" y="270504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sosceles Triangle 52"/>
          <p:cNvSpPr/>
          <p:nvPr/>
        </p:nvSpPr>
        <p:spPr>
          <a:xfrm>
            <a:off x="3129120" y="2857680"/>
            <a:ext cx="14256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sosceles Triangle 53"/>
          <p:cNvSpPr/>
          <p:nvPr/>
        </p:nvSpPr>
        <p:spPr>
          <a:xfrm>
            <a:off x="2600280" y="262404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sosceles Triangle 54"/>
          <p:cNvSpPr/>
          <p:nvPr/>
        </p:nvSpPr>
        <p:spPr>
          <a:xfrm>
            <a:off x="2752560" y="27766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sosceles Triangle 55"/>
          <p:cNvSpPr/>
          <p:nvPr/>
        </p:nvSpPr>
        <p:spPr>
          <a:xfrm>
            <a:off x="2428920" y="276696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sosceles Triangle 56"/>
          <p:cNvSpPr/>
          <p:nvPr/>
        </p:nvSpPr>
        <p:spPr>
          <a:xfrm>
            <a:off x="2695680" y="28335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57"/>
          <p:cNvSpPr/>
          <p:nvPr/>
        </p:nvSpPr>
        <p:spPr>
          <a:xfrm>
            <a:off x="2847960" y="29862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sosceles Triangle 58"/>
          <p:cNvSpPr/>
          <p:nvPr/>
        </p:nvSpPr>
        <p:spPr>
          <a:xfrm>
            <a:off x="3000240" y="31384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sosceles Triangle 59"/>
          <p:cNvSpPr/>
          <p:nvPr/>
        </p:nvSpPr>
        <p:spPr>
          <a:xfrm>
            <a:off x="2471760" y="29052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sosceles Triangle 60"/>
          <p:cNvSpPr/>
          <p:nvPr/>
        </p:nvSpPr>
        <p:spPr>
          <a:xfrm>
            <a:off x="2624040" y="30574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sosceles Triangle 61"/>
          <p:cNvSpPr/>
          <p:nvPr/>
        </p:nvSpPr>
        <p:spPr>
          <a:xfrm>
            <a:off x="2300400" y="304812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803160"/>
            <a:ext cx="9072720" cy="4632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42920" y="398520"/>
            <a:ext cx="878688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line (PA Yeoma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Keyline Pl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5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ater for every fa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6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ater for every farm using the keyline pl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7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aim is soil improvement through water storage and infiltration into the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small dams high in landscape.  High contour dams are built above the key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ivation is parallel to the keyline (Diag p 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scape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id – more moisture than eva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id – more evaporation than mois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ng – mature – old” part of Davis’ (late 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theory of sequential landscape develop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ee key factors: geological structure, weathering/erosion and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rted by rapid uplift, then gradual aging (if no tectonic activity) until old age when cycle repeats aga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ories and non-cyclical theories exi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erial view of keyline p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line (PA Yeoma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conserved water… is in direct proportion to the height of the storage.  Dams of …greatest value are those in… high country” (p. 4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line dams have pipes through wall so that full gravity pressure is available for irrig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ight slope drains take overflow water from dam to dam. Drains can be temporaily blocked to overflow and flood land below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line principles CAN be applied to land without a key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old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end of the ‘aging’ process, valley terraces and floodplains dominate, requir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od mitigation (levees, embankments, elevated homes, homes on high l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high ground for 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ing to reduce frost, waterlogging and flood erosion on valley bot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dge top tree planting to counter sal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id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rainfall and high evaporation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desert, steppe, scrublands, up to dry savannah fore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fall typically below 80 cm per year and highly variable in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grazing the most destructive infl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od erosion also a problem in some ari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ing in arid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sign for summer/day cooling and winter/night warmth.  Thick walls, small windows (none to West), flat roof, insulated ceilings, underground cell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ol courtyards with narrow, tall (multi storey) buildings to shade th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ter in tanks. Evaporative cooling using water wicks &amp; towers/vanes/airscoop venti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ximise narrow E-W stree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ok outdoors under sha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ves or earth-sheltered housing a good op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id area desig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work as high in catchment as possible; work downstream as plants estab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ed soil &amp; water testing needed due to existing imbalances and delicate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windbreak plantings up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ead pelleted seed over large area to await favourable 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establish garden oases at favoured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id area desig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for water trapping, retention &amp; recycling include stone or other mulch, wide swales, interceptor banks, wicking beds, trickle irrigation, pot systems, condensation traps, windbreaks, shaded gard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inity control measures may be need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bores or pumped well water faster than recharg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or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canic plains: fertile soils (lava &amp; ash), need for wind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stal sand plains: plantings to cope with wind erosion, salt spray, sandy so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al islands: windbreaks and foreshore plantings, building soils, water har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tlands: high productivity, chinampa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aries: very productive, fish traps, shell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id and humid weathering comp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0001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t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soil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vege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se chemical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ly uniform landscape evolution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2888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20001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re, seasonal, often violent rainf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 or absent soil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rse – no continuous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k chemical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sodic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maculture Design Man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7 –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8 – So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9 – Earthworking and earth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10 – The humid trop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11 – Dryland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12 – Humid cool to cold cli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across many temperature ranges; tropics to cool temperate z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both young volcanic landscapes of SE Asia &amp; ancient depleted areas of SE Austr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cautious of making broad generalisations across such diverse ranges; while some general principles DO apply, there is great local variation which must be consi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warm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?  Wet &amp; monsoonal tropics: Amazon &amp; Congo basins, Central America, Sri Lanka, Malaya, Borneo, New Guinea, Indonesia, Thailand, Timor, northern Australia, southern India  [excludes arid tropics and cold (elevated) tropics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t tr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vily populated only where volcanic soils enable cultivation (e.g. Ja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may contain remnant trib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consider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head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idity constantly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 most days of year and frequently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5% of nutrients held in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t tropics housing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essentials are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water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gienic faeces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ct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ep r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eable wa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t-dry tr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eward of the wet tropics (e.g. Pacific islands, Yucatan peninsula, ‘wet’ African grassla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ter is a dry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idity is 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 similar to wet tropics: high rain and episodic flooding (inc erosion) more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22:24:44Z</dcterms:created>
  <dc:creator>Steve Burns</dc:creator>
  <dc:description/>
  <dc:language>en-US</dc:language>
  <cp:lastModifiedBy>Steve Burns</cp:lastModifiedBy>
  <dcterms:modified xsi:type="dcterms:W3CDTF">2012-04-09T11:07:20Z</dcterms:modified>
  <cp:revision>23</cp:revision>
  <dc:subject/>
  <dc:title>Design features of landscapes</dc:title>
</cp:coreProperties>
</file>